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1799-0EF2-42A4-840A-546E2D87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F2C6-5439-4CC4-B03F-F9D839E4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9C78-664A-416D-A501-CC004439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9A1B-EE6C-4344-B3B5-5C4F76F7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CFC6-8ACA-478D-9CB7-733F844F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DB3E-3E57-418A-AF48-0A7BFA8E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5DDC-B600-45F3-A5DA-BCC59EE7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047B-A462-41C0-8CB5-54DAB74A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84A3-A63B-4D89-910D-2EE91B0F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F834-8684-444B-AF51-FAF7ABFC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E89F-5CF7-47FE-A9E1-508B6DFD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B223-1276-45FF-BD5B-DD9B0432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AAE9-5C51-476E-B00A-1C9E0917B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4560" y="260280"/>
            <a:ext cx="6019200" cy="45972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 you recognize the perfect ten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56040" y="907920"/>
            <a:ext cx="4608000" cy="581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do you look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720" y="2133720"/>
            <a:ext cx="245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Avoir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= to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/ ell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u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v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u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s / elle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72360" y="2060640"/>
            <a:ext cx="2189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Êtr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= to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/ ell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u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m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u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ê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s / elle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70920" y="5373720"/>
            <a:ext cx="4539240" cy="825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’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ai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Comic Sans MS"/>
              </a:rPr>
              <a:t>travaillé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ans un magas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worked in a 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16200" y="5373720"/>
            <a:ext cx="4627800" cy="825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sui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Comic Sans MS"/>
              </a:rPr>
              <a:t>allé(e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u travail en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 went to work by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66400" y="6372360"/>
            <a:ext cx="237816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Past parti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1907640" y="5805000"/>
            <a:ext cx="1511640" cy="576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500720" y="5733720"/>
            <a:ext cx="1366560" cy="647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4760" y="2085840"/>
            <a:ext cx="171396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auxilli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35640" y="2349360"/>
            <a:ext cx="9367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842920" y="2349360"/>
            <a:ext cx="8650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1:41:36Z</dcterms:created>
  <dc:creator>manager</dc:creator>
  <dc:description/>
  <dc:language>en-US</dc:language>
  <cp:lastModifiedBy>Caroline Cassels</cp:lastModifiedBy>
  <dcterms:modified xsi:type="dcterms:W3CDTF">2007-02-21T00:13:18Z</dcterms:modified>
  <cp:revision>345</cp:revision>
  <dc:subject/>
  <dc:title>No Slide Title</dc:title>
</cp:coreProperties>
</file>